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E9B6-7023-4AF0-A787-063BC4B52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6A81-890E-443B-A7E6-B6D63E12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D869-215F-4BB9-B14A-C61B1396A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C84D-808C-4140-B66A-E882BC55A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3C57-C954-4221-9A68-3F5E7021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B039-9DA3-4DAB-A934-9A035F13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7070-606B-4FED-9444-0A2E2436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4FB9-681E-4DE7-858B-94F55CDD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EDC0-AF12-4175-953C-DCF788B3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474F-11C9-4F4F-BF39-5FBBFE1E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101E-3895-47A6-97E3-BE891156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8C11-1FB3-4FF7-A8B6-0D594F1D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0340-F13D-4F56-B582-455392245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uo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magin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Buo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Buo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Buo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Buo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magin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magin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magin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Buo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uo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uo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magin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magin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magin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uo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Buo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uo0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09:40:55Z</dcterms:created>
  <dc:creator>fabio.medessi</dc:creator>
  <dc:description/>
  <dc:language>en-US</dc:language>
  <cp:lastModifiedBy>fabio.medessi</cp:lastModifiedBy>
  <dcterms:modified xsi:type="dcterms:W3CDTF">2010-08-10T10:01:10Z</dcterms:modified>
  <cp:revision>3</cp:revision>
  <dc:subject/>
  <dc:title>Presentazione di PowerPoint</dc:title>
</cp:coreProperties>
</file>